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E00-841E-421F-810C-EE2801A1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666-8E13-480B-A9B2-0AE0EBCC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B2D-0A22-4177-9346-74054986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8D5-43C8-46A7-9B24-9A0752EB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A29-71B5-48AA-B76F-09E9F92B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6D7-05AD-441C-BD1B-86E63481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550-408C-440F-8C54-2E87DF75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40D-7E14-4361-817D-60552518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194-FC9F-444B-AA75-041CECC9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BB0-1EBE-4234-9D55-D1B9BAD6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89F-2759-4452-BE91-58036A84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BCD-5562-4DF3-B9E5-7BD5BC1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30DB-7CE2-417B-BB3F-361108717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ritannic Bold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ritannic Bold"/>
              </a:rPr>
              <a:t>Kaylee Car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KC india.jpg"/>
          <p:cNvPicPr/>
          <p:nvPr/>
        </p:nvPicPr>
        <p:blipFill>
          <a:blip r:embed="rId2"/>
          <a:stretch/>
        </p:blipFill>
        <p:spPr>
          <a:xfrm rot="21433200">
            <a:off x="2062080" y="2209320"/>
            <a:ext cx="5181840" cy="327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Lucida Console"/>
              </a:rPr>
              <a:t>Dzong</a:t>
            </a:r>
            <a:r>
              <a:rPr b="0" lang="en-US" sz="4400" spc="-1" strike="noStrike">
                <a:solidFill>
                  <a:srgbClr val="ff0066"/>
                </a:solidFill>
                <a:latin typeface="Lucida Conso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05bb"/>
                </a:solidFill>
                <a:latin typeface="Goudy Stout"/>
              </a:rPr>
              <a:t>A Buddhist center of prayer and stu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KC dzong india.jpg"/>
          <p:cNvPicPr/>
          <p:nvPr/>
        </p:nvPicPr>
        <p:blipFill>
          <a:blip r:embed="rId1"/>
          <a:stretch/>
        </p:blipFill>
        <p:spPr>
          <a:xfrm>
            <a:off x="2057400" y="1676520"/>
            <a:ext cx="487692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Bauhaus 93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erlin Sans FB Demi"/>
              </a:rPr>
              <a:t>A large landmass that is part of a continent but distinct </a:t>
            </a:r>
            <a:r>
              <a:rPr b="0" lang="en-US" sz="3600" spc="-1" strike="noStrike">
                <a:solidFill>
                  <a:srgbClr val="0070c0"/>
                </a:solidFill>
                <a:latin typeface="Berlin Sans FB Demi"/>
              </a:rPr>
              <a:t>from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592360" y="1438200"/>
            <a:ext cx="4129200" cy="405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Arial Black"/>
              </a:rPr>
              <a:t>Monso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Elephant"/>
              </a:rPr>
              <a:t>A seasonal wind that blows for months at a time, affecting the cl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KC monsoon india.jpg"/>
          <p:cNvPicPr/>
          <p:nvPr/>
        </p:nvPicPr>
        <p:blipFill>
          <a:blip r:embed="rId1"/>
          <a:stretch/>
        </p:blipFill>
        <p:spPr>
          <a:xfrm>
            <a:off x="1905120" y="1981080"/>
            <a:ext cx="5029200" cy="358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Heavy"/>
              </a:rPr>
              <a:t>Jut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pperplate Gothic Bold"/>
              </a:rPr>
              <a:t>A plant fiber used for making rope, burlap bags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KC jute india.jpg"/>
          <p:cNvPicPr/>
          <p:nvPr/>
        </p:nvPicPr>
        <p:blipFill>
          <a:blip r:embed="rId1"/>
          <a:stretch/>
        </p:blipFill>
        <p:spPr>
          <a:xfrm rot="198000">
            <a:off x="2819160" y="1905120"/>
            <a:ext cx="3200400" cy="2361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11f31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Cottage Indus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f311"/>
                </a:solidFill>
                <a:latin typeface="Verdana"/>
              </a:rPr>
              <a:t>A home or village based industry where family members make their own go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http://t0.gstatic.com/images?q=tbn:ANd9GcTqAWg5_cDLzv-i1WoLMKYkkDLYsjTvYYc7CC9NKq6POFKONulgng"/>
          <p:cNvPicPr/>
          <p:nvPr/>
        </p:nvPicPr>
        <p:blipFill>
          <a:blip r:embed="rId1"/>
          <a:stretch/>
        </p:blipFill>
        <p:spPr>
          <a:xfrm>
            <a:off x="2209680" y="2438280"/>
            <a:ext cx="4496040" cy="3200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Rounded MT Bold"/>
              </a:rPr>
              <a:t>Ca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Eras Bold ITC"/>
              </a:rPr>
              <a:t>Your social class that is based on your ances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nataliepeart.files.wordpress.com/2011/10/caste_system-oo4t9n.jpg"/>
          <p:cNvPicPr/>
          <p:nvPr/>
        </p:nvPicPr>
        <p:blipFill>
          <a:blip r:embed="rId1"/>
          <a:stretch/>
        </p:blipFill>
        <p:spPr>
          <a:xfrm>
            <a:off x="1981080" y="182880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Franklin Gothic Heavy"/>
              </a:rPr>
              <a:t>Reincarn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Impact"/>
              </a:rPr>
              <a:t>A belief in the rebirth of a person’s soul in a new body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http://t0.gstatic.com/images?q=tbn:ANd9GcTfaKmdH2kFWDU44JSV55lk4g6CANqWR26oUU57SfBD2JStf9jIxyN8FNmb4A"/>
          <p:cNvPicPr/>
          <p:nvPr/>
        </p:nvPicPr>
        <p:blipFill>
          <a:blip r:embed="rId1"/>
          <a:stretch/>
        </p:blipFill>
        <p:spPr>
          <a:xfrm rot="21417000">
            <a:off x="2286000" y="1676520"/>
            <a:ext cx="4800600" cy="3581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Copperplate Gothic Bold"/>
              </a:rPr>
              <a:t>Cycl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Franklin Gothic Heavy"/>
              </a:rPr>
              <a:t>An intense storm system with heavy rain and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KC cyclone india.jpg"/>
          <p:cNvPicPr/>
          <p:nvPr/>
        </p:nvPicPr>
        <p:blipFill>
          <a:blip r:embed="rId1"/>
          <a:stretch/>
        </p:blipFill>
        <p:spPr>
          <a:xfrm rot="180000">
            <a:off x="2431800" y="1919160"/>
            <a:ext cx="3516120" cy="27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 Black"/>
              </a:rPr>
              <a:t>Pestic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Demi ITC"/>
              </a:rPr>
              <a:t>Powerful chemicals that kill crop-destroying ins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KC pesticides.jpg"/>
          <p:cNvPicPr/>
          <p:nvPr/>
        </p:nvPicPr>
        <p:blipFill>
          <a:blip r:embed="rId2"/>
          <a:stretch/>
        </p:blipFill>
        <p:spPr>
          <a:xfrm>
            <a:off x="3048120" y="2209680"/>
            <a:ext cx="2361960" cy="1981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49:53Z</dcterms:modified>
  <cp:revision>17</cp:revision>
  <dc:subject/>
  <dc:title>Chapter 5 – India Vocabulary</dc:title>
</cp:coreProperties>
</file>